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Chapter" id="0">
      <p:sldLst>
        <p:sld r:id="rId4"/>
        <p:sld r:id="rId3"/>
        <p:sld r:id="rId5"/>
        <p:sld r:id="rId7"/>
        <p:sld r:id="rId11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</p:sldLst>
    </p:custShow>
    <p:custShow name="ELI Sect 2" id="2">
      <p:sldLst>
        <p:sld r:id="rId3"/>
      </p:sldLst>
    </p:custShow>
    <p:custShow name="ELI STP" id="3">
      <p:sldLst>
        <p:sld r:id="rId10"/>
      </p:sldLst>
    </p:custShow>
    <p:custShow name="Bellringers" id="4">
      <p:sldLst>
        <p:sld r:id="rId4"/>
      </p:sldLst>
    </p:custShow>
    <p:custShow name="Chapter menu" id="5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07696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cks and the Rock Cycl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7772400" cy="268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Major Types of R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ck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ies of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ysical Stability of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cks have natural zones of weakness that are determined by how and where the rocks 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ock that formed under intense pressure is uplifted to Earth’s surface, decreased pressure allows the joints or fractures to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these weaknesses are exposed to air and water, the processes of chemical and mechanical weathering be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jor types of rock, and explain how each type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eps in the rock 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wen’s reaction s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ctors that affect the stability of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ree Major Types of Ro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processes that form and change the rocks of Earth’s crust, geologists classify rocks into three major types by the way the rocks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gneous rock forms when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ree Major Types of Rock,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imentary rock forms when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morphic rock forms when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Rock Cycl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of the three major types of rock can be changed into another of the three typ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logic forces and processes cause rock to change from one typ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ock cyc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Rock Cycl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rock 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544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Rock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rock has physical and chemical propert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are determined by how and where the rock fo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te at which rock weathers and the way that rock breaks apart are determined by the chemical stabil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minerals in the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wen’s Reaction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wen’s reaction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ttern of mineral formation from magma depends on the chemical composition of the mag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Bowen’s reaction s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19432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emical Stability of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te at which mineral chemically breaks down is dependent on the chemical stability of the mi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emical st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measure of the tendency of a chemical compound to maintain its original chemical composition rather than break dow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orm a different chem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emical stability of minerals is dependent o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ength of the chemical bon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atoms in the mi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10-28T15:41:31Z</dcterms:modified>
  <cp:revision>640</cp:revision>
  <dc:subject/>
  <dc:title>No Slide Title</dc:title>
</cp:coreProperties>
</file>